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F0D-C40D-47A1-A2F4-C8571DC8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261-AF19-4431-9F62-F5652D35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EE3-E405-4C2B-897C-1A5CF243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8E7-8B66-4C61-B04D-6ABFDC04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C26-AB6D-401C-A5E1-25029918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1B73-A47A-48D2-AC94-4ACEB378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19A-2752-4A77-A565-B8F32C0C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179-28C4-4937-B62D-7B4E7F23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5B6-1808-42A3-8E2E-3CF724E4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C4D-AD43-491A-9A4A-89FFC92C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A3E-6816-4229-8095-32FFF6C4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1550-AAF8-4FDB-B957-C44F3407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5092-CCD3-4963-922B-3A62D421E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upload.wikimedia.org/wikipedia/en/c/c6/Admiralty_house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gg.gov.au/res/image/Admiralty%20House%20Images%20/AH-DSCN0443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rds.yahoo.com/_ylt=A0PDoTGiay5Nqi0AY6WJzbkF;_ylu=X3oDMTBqYWdlNjBlBHBvcwMxOARzZWMDc3IEdnRpZAM-/SIG=1j5o9lknn/EXP=1294974242/**http%3A//images.search.yahoo.com/images/view%3Fback=http%253A%252F%252Fimages.search.yahoo.com%252Fsearch%252Fimages%253Fp%253Dadmiralty%252Bhouse%2526ei%253DUTF-8%2526fr%253Dyfp-t-312%2526fr2%253Dtab-web%26w=640%26h=480%26imgurl=www.seashorehouse.com%252Fimages%252Fadmiralty%252Flarge%252Flowerdeck.jpg%26rurl=http%253A%252F%252Fwww.seashorehouse.com%252Fadmiralty-house-lunenburg.php%26size=85KB%26name=Admiralty%2BHouse%2B...%26p=admiralty%2Bhouse%26oid=b4af5e850dcfed027831122b41c7987e%26fr2=tab-web%26no=18%26tt=17800%26sigr=11qvp2jq7%26sigi=11qli47tu%26sigb=130pcr89p%26.crumb=SOI.NSSg4V3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ds.yahoo.com/_ylt=A0WTbx.lci5NWHIA94ejzbkF/SIG=1321qp4hb/EXP=1294976037/**http%3A//www.jintudesigns.com/exterior-renderings/Australian-house-rendering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rds.yahoo.com/_ylt=A0WTbx9sci5NyXEAe7qJzbkF;_ylu=X3oDMTBqNzNhb3I1BHBvcwMyMQRzZWMDc3IEdnRpZAM-/SIG=1iiudvej9/EXP=1294975980/**http%3A//images.search.yahoo.com/images/view%3Fback=http%253A%252F%252Fimages.search.yahoo.com%252Fsearch%252Fimages%253F_adv_prop%253Dimage%2526va%253Daustralia%252Bhouses%2526fr%253Dyfp-t-312%26w=1221%26h=708%26imgurl=waltzingaustralia.files.wordpress.com%252F2007%252F07%252Fhouseonstumps4.jpeg%26rurl=http%253A%252F%252Fqwickstep.com%252Fsearch%252Faustralia-houses.html%26size=38KB%26name=Australia%2BHouses...%26p=australia%2Bhouses%26oid=40fff4367ef38811b321a8ecce03185b%26fr2=%26no=21%26tt=269000%26sigr=11hi8fgtc%26sigi=121cpethl%26sigb=12t14n6j5%26.crumb=SOI.NSSg4V3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rds.yahoo.com/_ylt=A0WTbx9sci5NyXEAcrqJzbkF;_ylu=X3oDMTBqamdoM3Q5BHBvcwMxMgRzZWMDc3IEdnRpZAM-/SIG=1n3no25l2/EXP=1294975980/**http%3A//images.search.yahoo.com/images/view%3Fback=http%253A%252F%252Fimages.search.yahoo.com%252Fsearch%252Fimages%253F_adv_prop%253Dimage%2526va%253Daustralia%252Bhouses%2526fr%253Dyfp-t-312%26w=800%26h=581%26imgurl=www.homehousedesign.com%252Fwp-content%252Fuploads%252F2009%252F07%252FHouse-Design-in-Sydney-Australia-Living-Room-Glass-800x581.jpg%26rurl=http%253A%252F%252Fwww.homehousedesign.com%252Fthe-muston-street-house-design-in-sydney-australia%252Fhouse-design-in-sydney-australia-living-room-glass%252F%26size=93KB%26name=in%2BSydney%2BAustra...%26p=australia%2Bhouses%26oid=f24159d0f6f6c968069513c3536fb3ad%26fr2=%26no=12%26tt=269000%26sigr=1454msl4j%26sigi=13h8gkglf%26sigb=12t14n6j5%26.crumb=SOI.NSSg4V3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rds.yahoo.com/_ylt=A0WTbx9sci5NyXEAerqJzbkF;_ylu=X3oDMTBqMGphbm9uBHBvcwMyMARzZWMDc3IEdnRpZAM-/SIG=1mg5rdst5/EXP=1294975980/**http%3A//images.search.yahoo.com/images/view%3Fback=http%253A%252F%252Fimages.search.yahoo.com%252Fsearch%252Fimages%253F_adv_prop%253Dimage%2526va%253Daustralia%252Bhouses%2526fr%253Dyfp-t-312%26w=784%26h=585%26imgurl=athome.kimvallee.com%252Fimages%252Fblog_kimvallee_com%252FWindowsLiveWriter%252FModernAustralianHouseShowcasepart1_8D07%252Fbrisvegas_modernhouse_2.jpg%26rurl=http%253A%252F%252Fathome.kimvallee.com%252F2008%252F07%252Fmodern-australian-house-showcase-ndash-part-1%252F%26size=189KB%26name=...%2B%253A%253A%2Baustralia...%26p=australia%2Bhouses%26oid=dfc4185ba10bf4401ec583f11c95f4cb%26fr2=%26no=20%26tt=269000%26sigr=12ii6scb0%26sigi=1441jnhd9%26sigb=12t14n6j5%26.crumb=SOI.NSSg4V3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rds.yahoo.com/_ylt=A0WTbx9sci5NyXEAb7qJzbkF;_ylu=X3oDMTBpdDZuNzZrBHBvcwM5BHNlYwNzcgR2dGlkAw--/SIG=1i7dkpuul/EXP=1294975980/**http%3A//images.search.yahoo.com/images/view%3Fback=http%253A%252F%252Fimages.search.yahoo.com%252Fsearch%252Fimages%253F_adv_prop%253Dimage%2526va%253Daustralia%252Bhouses%2526fr%253Dyfp-t-312%26w=640%26h=480%26imgurl=farm4.static.flickr.com%252F3553%252F3768208803_5b9ae6976f_z.jpg%26rurl=http%253A%252F%252Fwww.flickr.com%252Fphotos%252Faep%252F3768208803%252F%26size=213KB%26name=Australian%2Bhouse...%26p=australia%2Bhouses%26oid=43ea1af71c530dcfada07f2408beb278%26fr2=%26no=9%26tt=269000%26sigr=11cffojfs%26sigi=11o6867vl%26sigb=12t14n6j5%26.crumb=SOI.NSSg4V3" TargetMode="External"/><Relationship Id="rId11" Type="http://schemas.openxmlformats.org/officeDocument/2006/relationships/image" Target="../media/image15.jpeg"/><Relationship Id="rId12" Type="http://schemas.openxmlformats.org/officeDocument/2006/relationships/hyperlink" Target="http://rds.yahoo.com/_ylt=A0WTbx9sci5NyXEAdLqJzbkF;_ylu=X3oDMTBqNzBoY2J0BHBvcwMxNARzZWMDc3IEdnRpZAM-/SIG=1m9nths8m/EXP=1294975980/**http%3A//images.search.yahoo.com/images/view%3Fback=http%253A%252F%252Fimages.search.yahoo.com%252Fsearch%252Fimages%253F_adv_prop%253Dimage%2526va%253Daustralia%252Bhouses%2526fr%253Dyfp-t-312%26w=640%26h=480%26imgurl=desktopnature.com%252F4993-2%252FScarlet%252BNight_%252BSydney%252BOpera%252BHouse_%252BSydney_%252BAustralia.jpg%26rurl=http%253A%252F%252Fdesktopnature.com%252FNature-Australia%252FScarlet%252BNight_%252BSydney%252BOpera%252BHouse_%252BSydney_%252BAustralia.jpg.html%26size=43KB%26name=...%2BHouse%252C%2BSydne...%26p=australia%2Bhouses%26oid=513ce6e006fce97e06a8de345df09350%26fr2=%26no=14%26tt=269000%26sigr=137odhdet%26sigi=12hfs13ie%26sigb=12t14n6j5%26.crumb=SOI.NSSg4V3" TargetMode="External"/><Relationship Id="rId13" Type="http://schemas.openxmlformats.org/officeDocument/2006/relationships/image" Target="../media/image16.jpeg"/><Relationship Id="rId14" Type="http://schemas.openxmlformats.org/officeDocument/2006/relationships/hyperlink" Target="http://rds.yahoo.com/_ylt=A0WTbx9sci5NyXEAdbqJzbkF;_ylu=X3oDMTBqdGFzdWxiBHBvcwMxNQRzZWMDc3IEdnRpZAM-/SIG=1k5ihnap8/EXP=1294975980/**http%3A//images.search.yahoo.com/images/view%3Fback=http%253A%252F%252Fimages.search.yahoo.com%252Fsearch%252Fimages%253F_adv_prop%253Dimage%2526va%253Daustralia%252Bhouses%2526fr%253Dyfp-t-312%26w=640%26h=480%26imgurl=www.bobinoz.com%252Fblog%252Fwp-content%252Fuploads%252F2009%252F12%252FAustralian-house.JPG%26rurl=http%253A%252F%252Fwww.bobinoz.com%252Fblog%252F3372%252Fmy-house-is-bigger-than-your-house-its-official%252F%26size=96KB%26name=Australian%2Bhouse%26p=australia%2Bhouses%26oid=adc319962eebf5621cdd8e416be77b07%26fr2=%26no=15%26tt=269000%26sigr=12hni1cvo%26sigi=1245m1e3m%26sigb=12t14n6j5%26.crumb=SOI.NSSg4V3" TargetMode="External"/><Relationship Id="rId15" Type="http://schemas.openxmlformats.org/officeDocument/2006/relationships/image" Target="../media/image17.jpeg"/><Relationship Id="rId16" Type="http://schemas.openxmlformats.org/officeDocument/2006/relationships/hyperlink" Target="http://rds.yahoo.com/_ylt=A0WTbx.ycy5N5XQAcCCJzbkF;_ylu=X3oDMTBqaHBscmZmBHBvcwMxMwRzZWMDc3IEdnRpZAM-/SIG=1ivlvsm1u/EXP=1294976306/**http%3A//images.search.yahoo.com/images/view%3Fback=http%253A%252F%252Fimages.search.yahoo.com%252Fsearch%252Fimages%253Fp%253Dinside%252Baustralia%252Bhouses%2526ei%253Dutf-8%2526fr%253Dyfp-t-312%26w=640%26h=480%26imgurl=www.frenchclass.com.au%252Fwp-content%252Fgallery%252Finsidehouse%252FIMGP1996.jpg%26rurl=http%253A%252F%252Fwww.frenchclass.com.au%252F%253Fpage_id%253D51%26size=52KB%26name=inside%2Bthe%2Bhouse...%26p=inside%2Baustralia%2Bhouses%26oid=e97406eec7c2ea48e357acd8a5d51a70%26fr2=%26no=13%26tt=40100%26sigr=119rr5q9m%26sigi=122777ip4%26sigb=12s7maae5%26.crumb=SOI.NSSg4V3" TargetMode="External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orldhouseinfo.com/australia.htm" TargetMode="External"/><Relationship Id="rId2" Type="http://schemas.openxmlformats.org/officeDocument/2006/relationships/hyperlink" Target="http://www.abs.gov.au/AUSSTATS/ABS@.NSF/Previousproducts/1301.0Feature%20Article262005?opendocument&amp;tabname=Summary&amp;prodno=1301.0&amp;issue=2005&amp;num=&amp;view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Australian Ho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y: Amanda Va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d Parliament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house opened in 1927 and served as the Federal Parliament in 19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60’s the Old Parliament house served as a working parliament. This was part of an enormous change in Austra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now known as the Arts House at the Old Parli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4724280"/>
            <a:ext cx="2286000" cy="1389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52680" y="426708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172200" y="4819680"/>
            <a:ext cx="175248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Kirribilli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irribilli house is one of the more famous houses in Syd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house has bay windows, barge boards, fretwork, and steep pitched roo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house used to be home to the Prime Min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2210040" cy="1652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352680" y="4572000"/>
            <a:ext cx="2210040" cy="1469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943600" y="4495680"/>
            <a:ext cx="213372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ralty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he admiralty house is the official Sydney residence of the Governor- General of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Located in Sydn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File:Admiralty hous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44956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52680" y="4572000"/>
            <a:ext cx="2190960" cy="1647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481968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 extra’s now being added to the houses are things such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umpus Room (play room, recreation ro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k-in closets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k in kitchen pa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age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the 2002-2003 Census conducted by the Australian Bureau of Statistics, the average floor area of a house was about 227.6 m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Past Years to This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Many houses have grown bigger through the years. Any where between 20-30 years ago there would only be one to three bedrooms per household.  Now the average anywhere from four rooms and 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tos of Random Houses in Austr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View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2381400" cy="1495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19520" y="1600200"/>
            <a:ext cx="1981080" cy="1139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19520" y="2666880"/>
            <a:ext cx="2819160" cy="2044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Go to full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86400" y="3809880"/>
            <a:ext cx="2819520" cy="209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Go to full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562720" y="23623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Go to fullsize im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391520" y="23623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Go to fullsize imag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80880" y="44956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Go to fullsize imag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124080" y="472428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Go to fullsize image"/>
          <p:cNvPicPr/>
          <p:nvPr/>
        </p:nvPicPr>
        <p:blipFill>
          <a:blip r:embed="rId18"/>
          <a:stretch/>
        </p:blipFill>
        <p:spPr>
          <a:xfrm>
            <a:off x="990720" y="3048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orldhouseinfo.com/australia.ht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bs.gov.au/AUSSTATS/ABS@.NSF/Previousproducts/1301.0Feature%20Article262005?opendocument&amp;tabname=Summary&amp;prodno=1301.0&amp;issue=2005&amp;num=&amp;view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23:56:55Z</dcterms:created>
  <dc:creator>VASEK</dc:creator>
  <dc:description/>
  <dc:language>en-US</dc:language>
  <cp:lastModifiedBy>VASEK</cp:lastModifiedBy>
  <dcterms:modified xsi:type="dcterms:W3CDTF">2011-01-14T03:22:07Z</dcterms:modified>
  <cp:revision>9</cp:revision>
  <dc:subject/>
  <dc:title>Australian Houses</dc:title>
</cp:coreProperties>
</file>